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.wmf" ContentType="image/x-wmf"/>
  <Override PartName="/ppt/media/image15.jpeg" ContentType="image/jpeg"/>
  <Override PartName="/ppt/media/image23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jpeg" ContentType="image/jpeg"/>
  <Override PartName="/ppt/media/image22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4.png" ContentType="image/png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1C05-BAD3-4B09-8CF6-58AD0649A35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8313B-D71B-4898-81CF-F8135D92D57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BCEB5-E3F5-48B5-A309-0AEAB1101EB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5B423-D5D7-4DAA-B3EC-05AD995983A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1A410-3501-444F-9CB9-072380FAC8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82EC3-8BF3-4980-BD65-D92DA683620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CE28D-499B-4CC3-97D3-33DDC57BB7A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3B68C-E61D-4FF7-BEBB-E770EB2D989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3C5F7-92B6-4B5E-B84A-AD0E268B01B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6A86-7322-43B6-96E5-CBD64B4CDF4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02F-35E6-4662-97D0-1603C151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0F4-04B8-4638-8F56-AFF20615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17C-EF15-4BED-9A9A-E687F4F5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C6F-8AAB-4BE6-A31C-64336A3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48B-48DA-4C43-9656-887A2A52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028-C0F5-4CC2-80FC-DCD26BE1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008-ACC0-4886-96F8-119641D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78C-51E4-4C4A-9586-1F0262B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2E2-1428-47C6-B7A7-5C2DA64B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A6D-146D-451D-A7BD-8B0CF94E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2FA-C9A5-4A25-908D-60E1B23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3B2-0F10-4C73-846E-2BC52E6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AC16-3388-406A-A12F-92B28ADEB7A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72320" y="4428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iosíntesis de carbohidratos. Gluconeogénesis. Etapas. Regulación. Costo energético. Ciclos fútiles. Biosíntesis del glucógeno. Regulación coordinada entre la degradación y la síntesis del glucógeno.  Costo energético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225120" y="623736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36520" y="1700280"/>
            <a:ext cx="6787080" cy="459720"/>
            <a:chOff x="1136520" y="1700280"/>
            <a:chExt cx="6787080" cy="459720"/>
          </a:xfrm>
        </p:grpSpPr>
        <p:sp>
          <p:nvSpPr>
            <p:cNvPr id="183" name="Text Box 4"/>
            <p:cNvSpPr/>
            <p:nvPr/>
          </p:nvSpPr>
          <p:spPr>
            <a:xfrm>
              <a:off x="54432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113652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6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186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"/>
          <p:cNvGrpSpPr/>
          <p:nvPr/>
        </p:nvGrpSpPr>
        <p:grpSpPr>
          <a:xfrm>
            <a:off x="541440" y="2924280"/>
            <a:ext cx="8206920" cy="459720"/>
            <a:chOff x="541440" y="2924280"/>
            <a:chExt cx="8206920" cy="459720"/>
          </a:xfrm>
        </p:grpSpPr>
        <p:sp>
          <p:nvSpPr>
            <p:cNvPr id="189" name="Text Box 10"/>
            <p:cNvSpPr/>
            <p:nvPr/>
          </p:nvSpPr>
          <p:spPr>
            <a:xfrm>
              <a:off x="541440" y="292428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1"/>
            <p:cNvSpPr/>
            <p:nvPr/>
          </p:nvSpPr>
          <p:spPr>
            <a:xfrm>
              <a:off x="5807520" y="292428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2"/>
            <p:cNvGrpSpPr/>
            <p:nvPr/>
          </p:nvGrpSpPr>
          <p:grpSpPr>
            <a:xfrm>
              <a:off x="3860640" y="3067200"/>
              <a:ext cx="1655640" cy="144360"/>
              <a:chOff x="3860640" y="3067200"/>
              <a:chExt cx="1655640" cy="144360"/>
            </a:xfrm>
          </p:grpSpPr>
          <p:sp>
            <p:nvSpPr>
              <p:cNvPr id="192" name="Line 13"/>
              <p:cNvSpPr/>
              <p:nvPr/>
            </p:nvSpPr>
            <p:spPr>
              <a:xfrm>
                <a:off x="3932280" y="306720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>
                <a:off x="3860640" y="321156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n cuidadosamente reguladas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resto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glucosa, utilizando un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olécula donador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síntesis de glucógeno intervienen tres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04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08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Polimerización:</a:t>
            </a: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18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1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8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9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cebador de la glucógeno sintasa 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27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38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63480" y="907920"/>
            <a:ext cx="801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el proceso de biosíntesis de glucosa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3"/>
          <p:cNvGrpSpPr/>
          <p:nvPr/>
        </p:nvGrpSpPr>
        <p:grpSpPr>
          <a:xfrm>
            <a:off x="227160" y="2205000"/>
            <a:ext cx="8796600" cy="3168720"/>
            <a:chOff x="227160" y="2205000"/>
            <a:chExt cx="8796600" cy="3168720"/>
          </a:xfrm>
        </p:grpSpPr>
        <p:grpSp>
          <p:nvGrpSpPr>
            <p:cNvPr id="254" name="Group 2"/>
            <p:cNvGrpSpPr/>
            <p:nvPr/>
          </p:nvGrpSpPr>
          <p:grpSpPr>
            <a:xfrm>
              <a:off x="227160" y="2205000"/>
              <a:ext cx="8796600" cy="3168720"/>
              <a:chOff x="227160" y="2205000"/>
              <a:chExt cx="8796600" cy="3168720"/>
            </a:xfrm>
          </p:grpSpPr>
          <p:grpSp>
            <p:nvGrpSpPr>
              <p:cNvPr id="255" name="Group 3"/>
              <p:cNvGrpSpPr/>
              <p:nvPr/>
            </p:nvGrpSpPr>
            <p:grpSpPr>
              <a:xfrm>
                <a:off x="227160" y="2205000"/>
                <a:ext cx="8665920" cy="3168720"/>
                <a:chOff x="227160" y="2205000"/>
                <a:chExt cx="8665920" cy="3168720"/>
              </a:xfrm>
            </p:grpSpPr>
            <p:pic>
              <p:nvPicPr>
                <p:cNvPr id="256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28132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Rectangle 5"/>
                <p:cNvSpPr/>
                <p:nvPr/>
              </p:nvSpPr>
              <p:spPr>
                <a:xfrm>
                  <a:off x="4788000" y="220500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Text Box 6"/>
              <p:cNvSpPr/>
              <p:nvPr/>
            </p:nvSpPr>
            <p:spPr>
              <a:xfrm>
                <a:off x="6253920" y="3392640"/>
                <a:ext cx="276984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ff0000"/>
                    </a:solidFill>
                    <a:latin typeface="Arial"/>
                  </a:rPr>
                  <a:t>Amilo </a:t>
                </a:r>
                <a:r>
                  <a:rPr b="1" i="1" lang="el-GR" sz="16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i="1" lang="es-ES_tradnl" sz="1600" spc="-1" strike="noStrike">
                    <a:solidFill>
                      <a:srgbClr val="ff0000"/>
                    </a:solidFill>
                    <a:latin typeface="Arial"/>
                  </a:rPr>
                  <a:t>1,4 →1,6)-glucosi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ff0000"/>
                    </a:solidFill>
                    <a:latin typeface="Arial"/>
                  </a:rPr>
                  <a:t>transfer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7"/>
              <p:cNvSpPr/>
              <p:nvPr/>
            </p:nvSpPr>
            <p:spPr>
              <a:xfrm>
                <a:off x="3410280" y="486900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8"/>
              <p:cNvSpPr/>
              <p:nvPr/>
            </p:nvSpPr>
            <p:spPr>
              <a:xfrm>
                <a:off x="7882920" y="400536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12"/>
            <p:cNvSpPr/>
            <p:nvPr/>
          </p:nvSpPr>
          <p:spPr>
            <a:xfrm flipH="1" flipV="1">
              <a:off x="539280" y="342864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3"/>
          <p:cNvSpPr/>
          <p:nvPr/>
        </p:nvSpPr>
        <p:spPr>
          <a:xfrm>
            <a:off x="539640" y="40464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 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1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/>
            <a:ahLst/>
            <a:rect l="l" t="t" r="r" b="b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6"/>
          <p:cNvGrpSpPr/>
          <p:nvPr/>
        </p:nvGrpSpPr>
        <p:grpSpPr>
          <a:xfrm>
            <a:off x="108000" y="476280"/>
            <a:ext cx="8351640" cy="5799600"/>
            <a:chOff x="108000" y="476280"/>
            <a:chExt cx="8351640" cy="5799600"/>
          </a:xfrm>
        </p:grpSpPr>
        <p:grpSp>
          <p:nvGrpSpPr>
            <p:cNvPr id="266" name="Group 2"/>
            <p:cNvGrpSpPr/>
            <p:nvPr/>
          </p:nvGrpSpPr>
          <p:grpSpPr>
            <a:xfrm>
              <a:off x="324000" y="476280"/>
              <a:ext cx="8135640" cy="5761080"/>
              <a:chOff x="324000" y="476280"/>
              <a:chExt cx="8135640" cy="5761080"/>
            </a:xfrm>
          </p:grpSpPr>
          <p:pic>
            <p:nvPicPr>
              <p:cNvPr id="267" name="Picture 2" descr=""/>
              <p:cNvPicPr/>
              <p:nvPr/>
            </p:nvPicPr>
            <p:blipFill>
              <a:blip r:embed="rId1"/>
              <a:srcRect l="0" t="0" r="0" b="45278"/>
              <a:stretch/>
            </p:blipFill>
            <p:spPr>
              <a:xfrm>
                <a:off x="324000" y="476280"/>
                <a:ext cx="4032000" cy="57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3" descr=""/>
              <p:cNvPicPr/>
              <p:nvPr/>
            </p:nvPicPr>
            <p:blipFill>
              <a:blip r:embed="rId2"/>
              <a:srcRect l="0" t="39290" r="0" b="0"/>
              <a:stretch/>
            </p:blipFill>
            <p:spPr>
              <a:xfrm>
                <a:off x="4716360" y="476280"/>
                <a:ext cx="3743280" cy="57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Rectangle 5"/>
              <p:cNvSpPr/>
              <p:nvPr/>
            </p:nvSpPr>
            <p:spPr>
              <a:xfrm>
                <a:off x="1619280" y="5805360"/>
                <a:ext cx="115236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6"/>
              <p:cNvSpPr/>
              <p:nvPr/>
            </p:nvSpPr>
            <p:spPr>
              <a:xfrm>
                <a:off x="6300720" y="1557360"/>
                <a:ext cx="7192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16"/>
            <p:cNvSpPr/>
            <p:nvPr/>
          </p:nvSpPr>
          <p:spPr>
            <a:xfrm>
              <a:off x="108000" y="1351080"/>
              <a:ext cx="1944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roteína-Ty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s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(glucogenin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468360" y="328788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539640" y="4944960"/>
              <a:ext cx="1440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4788000" y="76824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6"/>
            <p:cNvSpPr/>
            <p:nvPr/>
          </p:nvSpPr>
          <p:spPr>
            <a:xfrm>
              <a:off x="5146560" y="2133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6"/>
            <p:cNvSpPr/>
            <p:nvPr/>
          </p:nvSpPr>
          <p:spPr>
            <a:xfrm>
              <a:off x="2843280" y="3357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46560" y="3429000"/>
              <a:ext cx="108108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 y Enzima ramific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5580000" y="6093000"/>
              <a:ext cx="1871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ff"/>
                  </a:solidFill>
                  <a:latin typeface="Arial"/>
                </a:rPr>
                <a:t>Partícula de Gluc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2268360" y="839880"/>
              <a:ext cx="1366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CuadroTexto"/>
          <p:cNvSpPr/>
          <p:nvPr/>
        </p:nvSpPr>
        <p:spPr>
          <a:xfrm>
            <a:off x="152280" y="6858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GASTO ENERGETICO EN LA SINTESIS DE 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Fosforilaci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ó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n de Glu a Glu-6-P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Activación de Glu-1-P a UDP-Glu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Hidrólisis PP a 2 Pi (se rompe una unión de alta energ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468360" y="765000"/>
            <a:ext cx="835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86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91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96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02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05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Rectángulo"/>
          <p:cNvSpPr/>
          <p:nvPr/>
        </p:nvSpPr>
        <p:spPr>
          <a:xfrm>
            <a:off x="274680" y="333360"/>
            <a:ext cx="861048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DEGRADACION DEL GLUCOGENO (GLUCOGENO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SE ACTIVA CUANDO LA CELULA NECESITA ENERGIA Y NO DISPONE DE 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TIENE LUGAR EN EL CITOPLASMA  CEL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ROCESO MUY ACTIVO EN HIGADO Y MUSCULO ESQUELETIC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16000" y="836640"/>
            <a:ext cx="450036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 u="sng">
                <a:solidFill>
                  <a:srgbClr val="000000"/>
                </a:solidFill>
                <a:uFillTx/>
                <a:latin typeface="Arial"/>
              </a:rPr>
              <a:t>NECESIDAD DE GLUCOSA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ENTRE CO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ACTIVIDAD MUSCULAR 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VIGOR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 u="sng">
                <a:solidFill>
                  <a:srgbClr val="000000"/>
                </a:solidFill>
                <a:uFillTx/>
                <a:latin typeface="Arial"/>
              </a:rPr>
              <a:t>HIGADO Y MÚSCULO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: DEPOSITOS O RESERVA DE GLUC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951360" cy="2736720"/>
          </a:xfrm>
          <a:prstGeom prst="rect">
            <a:avLst/>
          </a:prstGeom>
          <a:ln w="0">
            <a:noFill/>
          </a:ln>
        </p:spPr>
      </p:pic>
      <p:sp>
        <p:nvSpPr>
          <p:cNvPr id="310" name="Line 4"/>
          <p:cNvSpPr/>
          <p:nvPr/>
        </p:nvSpPr>
        <p:spPr>
          <a:xfrm flipV="1">
            <a:off x="4643280" y="2781360"/>
            <a:ext cx="865440" cy="100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2684880" y="2286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2732040" y="188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539640" y="415620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 Rectángulo"/>
          <p:cNvSpPr/>
          <p:nvPr/>
        </p:nvSpPr>
        <p:spPr>
          <a:xfrm>
            <a:off x="287280" y="907920"/>
            <a:ext cx="39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quiere de dos rea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1) Eliminación de GLUCOSA del extremo no reductor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2) Hidrólisis de los enlaces glucosídicos en los puntos de ramificación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magen 3" descr=""/>
          <p:cNvPicPr/>
          <p:nvPr/>
        </p:nvPicPr>
        <p:blipFill>
          <a:blip r:embed="rId1"/>
          <a:srcRect l="24459" t="18498" r="6379" b="8824"/>
          <a:stretch/>
        </p:blipFill>
        <p:spPr>
          <a:xfrm>
            <a:off x="4498920" y="676440"/>
            <a:ext cx="4105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18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572000" y="35686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) glucano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427640" y="4917960"/>
            <a:ext cx="13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5867280" y="5084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Fosfogluco-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6805440" y="544500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755640" y="765000"/>
            <a:ext cx="7488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295200" y="189000"/>
            <a:ext cx="85788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899280" y="2276640"/>
            <a:ext cx="6049080" cy="4173480"/>
            <a:chOff x="899280" y="2276640"/>
            <a:chExt cx="6049080" cy="4173480"/>
          </a:xfrm>
        </p:grpSpPr>
        <p:grpSp>
          <p:nvGrpSpPr>
            <p:cNvPr id="332" name="Group 4"/>
            <p:cNvGrpSpPr/>
            <p:nvPr/>
          </p:nvGrpSpPr>
          <p:grpSpPr>
            <a:xfrm>
              <a:off x="2494800" y="2276640"/>
              <a:ext cx="4453560" cy="4173480"/>
              <a:chOff x="2494800" y="2276640"/>
              <a:chExt cx="4453560" cy="41734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6"/>
              <p:cNvSpPr/>
              <p:nvPr/>
            </p:nvSpPr>
            <p:spPr>
              <a:xfrm>
                <a:off x="2494800" y="400212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7"/>
              <p:cNvSpPr/>
              <p:nvPr/>
            </p:nvSpPr>
            <p:spPr>
              <a:xfrm>
                <a:off x="4932360" y="422100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8"/>
              <p:cNvSpPr/>
              <p:nvPr/>
            </p:nvSpPr>
            <p:spPr>
              <a:xfrm>
                <a:off x="5364000" y="367020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9"/>
              <p:cNvSpPr/>
              <p:nvPr/>
            </p:nvSpPr>
            <p:spPr>
              <a:xfrm>
                <a:off x="5362920" y="450540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0"/>
            <p:cNvGrpSpPr/>
            <p:nvPr/>
          </p:nvGrpSpPr>
          <p:grpSpPr>
            <a:xfrm>
              <a:off x="899280" y="3952800"/>
              <a:ext cx="1588320" cy="483120"/>
              <a:chOff x="899280" y="3952800"/>
              <a:chExt cx="1588320" cy="483120"/>
            </a:xfrm>
          </p:grpSpPr>
          <p:sp>
            <p:nvSpPr>
              <p:cNvPr id="339" name="Text Box 11"/>
              <p:cNvSpPr/>
              <p:nvPr/>
            </p:nvSpPr>
            <p:spPr>
              <a:xfrm>
                <a:off x="899280" y="41288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3"/>
              <p:cNvSpPr/>
              <p:nvPr/>
            </p:nvSpPr>
            <p:spPr>
              <a:xfrm>
                <a:off x="2053800" y="395280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Rectangle 14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7"/>
          <p:cNvSpPr/>
          <p:nvPr/>
        </p:nvSpPr>
        <p:spPr>
          <a:xfrm>
            <a:off x="4788000" y="3716280"/>
            <a:ext cx="144360" cy="1366920"/>
          </a:xfrm>
          <a:custGeom>
            <a:avLst/>
            <a:gdLst/>
            <a:ahLst/>
            <a:rect l="l" t="t" r="r" b="b"/>
            <a:pathLst>
              <a:path fill="none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</a:path>
              <a:path stroke="0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  <a:lnTo>
                  <a:pt x="6807" y="21600"/>
                </a:lnTo>
                <a:lnTo>
                  <a:pt x="6806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8"/>
          <p:cNvSpPr/>
          <p:nvPr/>
        </p:nvSpPr>
        <p:spPr>
          <a:xfrm flipH="1">
            <a:off x="3564000" y="3646440"/>
            <a:ext cx="109440" cy="1295280"/>
          </a:xfrm>
          <a:custGeom>
            <a:avLst/>
            <a:gdLst/>
            <a:ahLst/>
            <a:rect l="l" t="t" r="r" b="b"/>
            <a:pathLst>
              <a:path fill="none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</a:path>
              <a:path stroke="0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uadroTexto 20"/>
          <p:cNvSpPr/>
          <p:nvPr/>
        </p:nvSpPr>
        <p:spPr>
          <a:xfrm>
            <a:off x="3785040" y="285264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Arial"/>
              </a:rPr>
              <a:t>Glucóge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uadroTexto 21"/>
          <p:cNvSpPr/>
          <p:nvPr/>
        </p:nvSpPr>
        <p:spPr>
          <a:xfrm>
            <a:off x="3780000" y="5589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7f7f7f"/>
                </a:solidFill>
                <a:latin typeface="Arial"/>
              </a:rPr>
              <a:t>Glucóge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468360" y="54936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ON DE LA GLUCOGENOLISIS 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(VG)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92200" y="5450040"/>
            <a:ext cx="80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Cuando se precisa realizar trabajo muscular, el SNC estimula la médula adrenal (glándula adrenal), que secreta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68360" y="287280"/>
            <a:ext cx="820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ON DE LA GLUCOGENOLISIS HEP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000" spc="-1" strike="noStrike">
                <a:solidFill>
                  <a:srgbClr val="0000ff"/>
                </a:solidFill>
                <a:latin typeface="Arial Rounded MT Bold"/>
              </a:rPr>
              <a:t>fuente de glucosa para los tejidos extrahepáticos,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incluido el músculo esquelétic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ígado mantiene la gluce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755640" y="2467080"/>
            <a:ext cx="5518080" cy="39862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6567480" y="2081160"/>
            <a:ext cx="232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Ante un descenso de la glucemia el páncreas libera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GLUCAG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ientras que ante un aumento de la glucemia, el páncreas libera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INSU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uadroTexto 1"/>
          <p:cNvSpPr/>
          <p:nvPr/>
        </p:nvSpPr>
        <p:spPr>
          <a:xfrm rot="2078400">
            <a:off x="1487160" y="4344480"/>
            <a:ext cx="16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uadroTexto 7"/>
          <p:cNvSpPr/>
          <p:nvPr/>
        </p:nvSpPr>
        <p:spPr>
          <a:xfrm rot="2078400">
            <a:off x="1526760" y="4789440"/>
            <a:ext cx="16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 rot="3060600">
            <a:off x="1190160" y="5032080"/>
            <a:ext cx="16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upo 2"/>
          <p:cNvGrpSpPr/>
          <p:nvPr/>
        </p:nvGrpSpPr>
        <p:grpSpPr>
          <a:xfrm>
            <a:off x="1800360" y="73080"/>
            <a:ext cx="5724360" cy="6669000"/>
            <a:chOff x="1800360" y="73080"/>
            <a:chExt cx="5724360" cy="6669000"/>
          </a:xfrm>
        </p:grpSpPr>
        <p:pic>
          <p:nvPicPr>
            <p:cNvPr id="360" name="Picture 2" descr="GLUCOG-regul-horm"/>
            <p:cNvPicPr/>
            <p:nvPr/>
          </p:nvPicPr>
          <p:blipFill>
            <a:blip r:embed="rId1"/>
            <a:stretch/>
          </p:blipFill>
          <p:spPr>
            <a:xfrm>
              <a:off x="1800360" y="73080"/>
              <a:ext cx="572436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"/>
            <p:cNvSpPr/>
            <p:nvPr/>
          </p:nvSpPr>
          <p:spPr>
            <a:xfrm>
              <a:off x="4713120" y="115920"/>
              <a:ext cx="2001960" cy="520200"/>
            </a:xfrm>
            <a:prstGeom prst="rect">
              <a:avLst/>
            </a:prstGeom>
            <a:solidFill>
              <a:srgbClr val="f2e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renalina (múscul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a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ó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 (híg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60160" y="1504800"/>
              <a:ext cx="18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Célula hepá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o mus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CuadroTexto 1"/>
            <p:cNvSpPr/>
            <p:nvPr/>
          </p:nvSpPr>
          <p:spPr>
            <a:xfrm>
              <a:off x="3568680" y="5301360"/>
              <a:ext cx="91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Glucóg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CuadroTexto 7"/>
            <p:cNvSpPr/>
            <p:nvPr/>
          </p:nvSpPr>
          <p:spPr>
            <a:xfrm>
              <a:off x="5383080" y="5373360"/>
              <a:ext cx="91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Glucóg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6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70" name="Line 7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8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9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73" name="Line 10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1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Arc 12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11960" y="1523880"/>
            <a:ext cx="24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cape de un pred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4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78" name="Line 15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81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0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1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403280" y="1644480"/>
            <a:ext cx="2266560" cy="991800"/>
            <a:chOff x="1403280" y="1644480"/>
            <a:chExt cx="2266560" cy="991800"/>
          </a:xfrm>
        </p:grpSpPr>
        <p:sp>
          <p:nvSpPr>
            <p:cNvPr id="387" name="Line 4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"/>
            <p:cNvSpPr/>
            <p:nvPr/>
          </p:nvSpPr>
          <p:spPr>
            <a:xfrm>
              <a:off x="1408680" y="1781280"/>
              <a:ext cx="22611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uego de una com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6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390" name="Line 7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9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393" name="Arc 10"/>
            <p:cNvSpPr/>
            <p:nvPr/>
          </p:nvSpPr>
          <p:spPr>
            <a:xfrm>
              <a:off x="5722920" y="1427040"/>
              <a:ext cx="1440000" cy="360720"/>
            </a:xfrm>
            <a:custGeom>
              <a:avLst/>
              <a:gdLst/>
              <a:ahLst/>
              <a:rect l="l" t="t" r="r" b="b"/>
              <a:pathLst>
                <a:path fill="none" w="43200" h="21600">
                  <a:moveTo>
                    <a:pt x="0" y="21511"/>
                  </a:moveTo>
                  <a:cubicBezTo>
                    <a:pt x="49" y="9616"/>
                    <a:pt x="9705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21600">
                  <a:moveTo>
                    <a:pt x="0" y="21511"/>
                  </a:moveTo>
                  <a:cubicBezTo>
                    <a:pt x="49" y="9616"/>
                    <a:pt x="9705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0" y="2151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2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396" name="Picture 13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4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5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3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401" name="Text Box 4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6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8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406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54"/>
          <p:cNvGrpSpPr/>
          <p:nvPr/>
        </p:nvGrpSpPr>
        <p:grpSpPr>
          <a:xfrm>
            <a:off x="4290840" y="290520"/>
            <a:ext cx="4457520" cy="6276960"/>
            <a:chOff x="4290840" y="290520"/>
            <a:chExt cx="4457520" cy="6276960"/>
          </a:xfrm>
        </p:grpSpPr>
        <p:grpSp>
          <p:nvGrpSpPr>
            <p:cNvPr id="77" name="Group 15"/>
            <p:cNvGrpSpPr/>
            <p:nvPr/>
          </p:nvGrpSpPr>
          <p:grpSpPr>
            <a:xfrm>
              <a:off x="4290840" y="290520"/>
              <a:ext cx="4457520" cy="6276960"/>
              <a:chOff x="4290840" y="290520"/>
              <a:chExt cx="4457520" cy="6276960"/>
            </a:xfrm>
          </p:grpSpPr>
          <p:pic>
            <p:nvPicPr>
              <p:cNvPr id="78" name="Picture 2" descr="40 Gluconeogenesis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290520"/>
                <a:ext cx="4457520" cy="62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Arc 8"/>
              <p:cNvSpPr/>
              <p:nvPr/>
            </p:nvSpPr>
            <p:spPr>
              <a:xfrm flipH="1" flipV="1">
                <a:off x="7665120" y="5014800"/>
                <a:ext cx="2206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</a:path>
                  <a:path stroke="0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  <a:lnTo>
                      <a:pt x="0" y="21600"/>
                    </a:lnTo>
                    <a:lnTo>
                      <a:pt x="31" y="0"/>
                    </a:lnTo>
                    <a:close/>
                  </a:path>
                </a:pathLst>
              </a:custGeom>
              <a:noFill/>
              <a:ln w="255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4"/>
              <p:cNvSpPr/>
              <p:nvPr/>
            </p:nvSpPr>
            <p:spPr>
              <a:xfrm>
                <a:off x="7704000" y="5229360"/>
                <a:ext cx="179280" cy="90360"/>
              </a:xfrm>
              <a:prstGeom prst="rect">
                <a:avLst/>
              </a:prstGeom>
              <a:solidFill>
                <a:srgbClr val="f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Line 51"/>
            <p:cNvSpPr/>
            <p:nvPr/>
          </p:nvSpPr>
          <p:spPr>
            <a:xfrm>
              <a:off x="5867280" y="2924280"/>
              <a:ext cx="0" cy="2156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2"/>
            <p:cNvSpPr/>
            <p:nvPr/>
          </p:nvSpPr>
          <p:spPr>
            <a:xfrm>
              <a:off x="5867280" y="314172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3"/>
            <p:cNvSpPr/>
            <p:nvPr/>
          </p:nvSpPr>
          <p:spPr>
            <a:xfrm>
              <a:off x="5867280" y="328464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"/>
          <p:cNvSpPr/>
          <p:nvPr/>
        </p:nvSpPr>
        <p:spPr>
          <a:xfrm>
            <a:off x="357480" y="333360"/>
            <a:ext cx="36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2"/>
          <p:cNvGrpSpPr/>
          <p:nvPr/>
        </p:nvGrpSpPr>
        <p:grpSpPr>
          <a:xfrm>
            <a:off x="468360" y="2297160"/>
            <a:ext cx="3586680" cy="368280"/>
            <a:chOff x="468360" y="2297160"/>
            <a:chExt cx="3586680" cy="368280"/>
          </a:xfrm>
        </p:grpSpPr>
        <p:sp>
          <p:nvSpPr>
            <p:cNvPr id="96" name="Text Box 18"/>
            <p:cNvSpPr/>
            <p:nvPr/>
          </p:nvSpPr>
          <p:spPr>
            <a:xfrm>
              <a:off x="468360" y="2297160"/>
              <a:ext cx="21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2037960" y="2492280"/>
              <a:ext cx="7182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28213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0920" y="2708280"/>
            <a:ext cx="3403440" cy="388800"/>
            <a:chOff x="520920" y="2708280"/>
            <a:chExt cx="3403440" cy="388800"/>
          </a:xfrm>
        </p:grpSpPr>
        <p:sp>
          <p:nvSpPr>
            <p:cNvPr id="100" name="Text Box 21"/>
            <p:cNvSpPr/>
            <p:nvPr/>
          </p:nvSpPr>
          <p:spPr>
            <a:xfrm>
              <a:off x="520920" y="27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>
              <a:off x="971640" y="29242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3"/>
            <p:cNvSpPr/>
            <p:nvPr/>
          </p:nvSpPr>
          <p:spPr>
            <a:xfrm>
              <a:off x="168912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44"/>
          <p:cNvGrpSpPr/>
          <p:nvPr/>
        </p:nvGrpSpPr>
        <p:grpSpPr>
          <a:xfrm>
            <a:off x="469800" y="3133800"/>
            <a:ext cx="3508920" cy="368280"/>
            <a:chOff x="469800" y="3133800"/>
            <a:chExt cx="3508920" cy="368280"/>
          </a:xfrm>
        </p:grpSpPr>
        <p:sp>
          <p:nvSpPr>
            <p:cNvPr id="104" name="Text Box 24"/>
            <p:cNvSpPr/>
            <p:nvPr/>
          </p:nvSpPr>
          <p:spPr>
            <a:xfrm>
              <a:off x="46980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1403280" y="33577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169200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3"/>
          <p:cNvGrpSpPr/>
          <p:nvPr/>
        </p:nvGrpSpPr>
        <p:grpSpPr>
          <a:xfrm>
            <a:off x="469440" y="3567240"/>
            <a:ext cx="3458160" cy="368280"/>
            <a:chOff x="469440" y="3567240"/>
            <a:chExt cx="3458160" cy="368280"/>
          </a:xfrm>
        </p:grpSpPr>
        <p:sp>
          <p:nvSpPr>
            <p:cNvPr id="108" name="Text Box 27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1187280" y="378936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169236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435564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3548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7"/>
          <p:cNvGrpSpPr/>
          <p:nvPr/>
        </p:nvGrpSpPr>
        <p:grpSpPr>
          <a:xfrm>
            <a:off x="297000" y="4724280"/>
            <a:ext cx="3914640" cy="368280"/>
            <a:chOff x="297000" y="4724280"/>
            <a:chExt cx="3914640" cy="368280"/>
          </a:xfrm>
        </p:grpSpPr>
        <p:sp>
          <p:nvSpPr>
            <p:cNvPr id="115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>
              <a:off x="1827360" y="4919760"/>
              <a:ext cx="10857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8"/>
            <p:cNvSpPr/>
            <p:nvPr/>
          </p:nvSpPr>
          <p:spPr>
            <a:xfrm>
              <a:off x="2835360" y="4724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2"/>
          <p:cNvGrpSpPr/>
          <p:nvPr/>
        </p:nvGrpSpPr>
        <p:grpSpPr>
          <a:xfrm>
            <a:off x="501120" y="5149800"/>
            <a:ext cx="3350160" cy="368280"/>
            <a:chOff x="501120" y="5149800"/>
            <a:chExt cx="3350160" cy="368280"/>
          </a:xfrm>
        </p:grpSpPr>
        <p:sp>
          <p:nvSpPr>
            <p:cNvPr id="119" name="Text Box 39"/>
            <p:cNvSpPr/>
            <p:nvPr/>
          </p:nvSpPr>
          <p:spPr>
            <a:xfrm>
              <a:off x="50112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0"/>
            <p:cNvSpPr/>
            <p:nvPr/>
          </p:nvSpPr>
          <p:spPr>
            <a:xfrm>
              <a:off x="1111320" y="537228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1"/>
            <p:cNvSpPr/>
            <p:nvPr/>
          </p:nvSpPr>
          <p:spPr>
            <a:xfrm>
              <a:off x="161604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Oval 46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4788000" y="1484280"/>
            <a:ext cx="187164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4788000" y="333360"/>
            <a:ext cx="172872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571680" y="3143160"/>
            <a:ext cx="29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se ingieren carbohidratos con la dieta y los niveles de glucemia aumentan, la actividad de 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fosforilasa-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GLUCOGENO HEPATICO 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184920" y="2602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radley Hand ITC"/>
              </a:rPr>
              <a:t>Ciclos f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7840" y="836640"/>
            <a:ext cx="822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Los ciclos fútiles, son ciclos metabólicos “inútiles” que producen un derroche de energía (ATP). Se producen cuando no existe una regulación o control adecuado de las reacciones involucrad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0" t="0" r="0" b="75307"/>
          <a:stretch/>
        </p:blipFill>
        <p:spPr>
          <a:xfrm>
            <a:off x="2340000" y="2060640"/>
            <a:ext cx="4583160" cy="1511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2733840" y="2276640"/>
            <a:ext cx="43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829480" y="2131920"/>
            <a:ext cx="431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733840" y="2997360"/>
            <a:ext cx="4316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2"/>
          <a:srcRect l="0" t="30586" r="0" b="45891"/>
          <a:stretch/>
        </p:blipFill>
        <p:spPr>
          <a:xfrm>
            <a:off x="2340000" y="4221000"/>
            <a:ext cx="4583160" cy="1440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 rot="20483400">
            <a:off x="3144600" y="4214880"/>
            <a:ext cx="8776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5614920" y="4221000"/>
            <a:ext cx="935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5830920" y="5086440"/>
            <a:ext cx="9349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2444760" y="5084640"/>
            <a:ext cx="122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3452760" y="5516640"/>
            <a:ext cx="432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378320" y="3679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322200" y="5805360"/>
            <a:ext cx="85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En ambos casos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no existir regulación metabólica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: ATP + H2O 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Arial"/>
              </a:rPr>
              <a:t>→ 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1763640" y="260676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6806520" y="1974960"/>
            <a:ext cx="3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2700360" y="4221000"/>
            <a:ext cx="43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CuadroTexto"/>
          <p:cNvSpPr/>
          <p:nvPr/>
        </p:nvSpPr>
        <p:spPr>
          <a:xfrm>
            <a:off x="307800" y="33336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150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6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162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169" name="Picture 5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6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Ana Anzulovich</cp:lastModifiedBy>
  <dcterms:modified xsi:type="dcterms:W3CDTF">2015-04-23T01:43:27Z</dcterms:modified>
  <cp:revision>58</cp:revision>
  <dc:subject/>
  <dc:title>Diapositiva 1</dc:title>
</cp:coreProperties>
</file>